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CB8-EFFE-4ED4-AF54-ED6EC967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8A90-70B2-4D0F-B49C-17767D2E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A1C-92CB-4239-926F-AD4839D1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6B1-6336-4B2F-AC13-7021B9DE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24046-BA90-41A0-A5FB-2921DCE0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8C50D-3E04-4D83-A431-1EE5C2A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2A680-FC77-4EAC-A703-99AFFAA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C1AAE-5EA4-45FB-A9D6-1B73FC19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3D302-678E-404F-B185-6B2A3B26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3F3A4-F8CC-4F43-9858-6D5426D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CE5F4-EE61-4A92-8FF2-245B53F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2BE-0D0E-4C48-A4E5-741B6109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33C72-1251-48E5-BD58-11A25175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5121-963C-42EC-AF0F-6C5464D7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9A97E-7AD8-4552-AB8B-4D58F0F7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E720B-AD15-4E27-9513-8465A4B7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8D67D-B7B8-46A5-9D1C-9262BE31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491-76DF-4F50-9A99-27A28E50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9D2-21CD-486A-8B00-9C1D164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C20-CF06-469A-B8E3-8ED8DE86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0C3D-8DD0-487D-BE19-CDDDAE9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DB9-1357-4CE1-948B-4D0675E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AE6-00D2-4FFD-9C78-16267076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E7D-6111-4EA5-BBAC-DD7B9C4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1BC0-796E-4CA2-A8B2-26751667A9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106D-DD49-45EF-8E72-68826CFFF4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QUIS SUM?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CCE RŌMĀN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ges 28 to 31 to answer these ques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characters from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en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CA50-F9A0-4ED4-8CAC-E3E44071A0E7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mightiest and handsomest Greek warri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by PARIS’ arrow in my only vulnerable spot, my he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ch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070C-C616-4D3F-98EF-299682F73C09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heir to the throne of Tro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best Trojan warrio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d dishonored by ACHIL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Hec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BB46-1E13-42FB-8EEF-2B9CA14F0742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goddess of wisd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rotector of the city of PRIA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Minerv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(Athena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1E8F-59DE-4150-A12D-6BF0C7E51766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said to be a gift to ATHE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am really a trick built by the Greek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Trojan Hor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(Wooden Horse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1B5D-03F9-46A2-BD53-73AFDFC6561A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lso called Odysseus, hero of the great Greek epic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clever mastermind of  THE TROJAN HOR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Uly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6A31-9F94-4B26-A892-D7797307DE0D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blind poet who told the tales of the Trojan War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li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wanderings of ULYSSES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dysse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9096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Home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41A0-5353-4A22-A8FA-D3F22264FB38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later be called Iul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little boy I escaped with my father, AENEAS, from the burning city of Tro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scani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4040-03B2-444C-802C-6814509C5B50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 Trojan princess and the mother of ASCANI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husband searched for me, but I perished in the fall of Tro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Creus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E01E-FE7C-4F38-AFE2-1F52AF02B6B6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Phoenician queen of Carthage, a city that would later be Rome’s enemy in the Punic W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ided AENE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Di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FB5F-0C4F-447E-898C-5F457395D1A3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king of Lati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elcomed AENEAS to my la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Latin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fld id="{014A14CF-0CE7-4E7F-BFC2-7577931BD526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 wandering strang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became father of the “Latin”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heroic ancestor of the Roma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en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F47-5BE6-47D0-A101-A21112072E86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daughter of LATINU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became Aeneas’ second wif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38320" y="1600200"/>
            <a:ext cx="3048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Lavi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349-3C52-4698-BE99-F70EBD7098E3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author of the epic tale of AENEAS’ trav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Vergi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Publius Vergilius Mar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8589-1BBB-4277-B76D-920DA1E53499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mortal father of AEN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bravely rescued me from Troy in its final mo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nchi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42D2-9C0A-4926-AC32-98F7A7D4F14F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goddess of love and beau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mother of AENEA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ave a constant feud with the goddess Jun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Ven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(Aphrodit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fld id="{F5874568-CA7C-4ABE-BDB2-4EE193EA5693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a Trojan prince raised as a shepher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selected VENUS in a beauty contest of goddesses and started a w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Par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1B17-5607-46B6-B82B-43DA25710D0F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5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king of the walled city of Tr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father of many sons, including PARIS and H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Pri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fld id="{B0BC405C-3DBC-4308-AF3C-50557294984B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queen of Sparta, given as a prize to PA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I am the most beautiful woman in the wor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Hel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689-2F91-4518-B373-2947F5367ECA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king of Spar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e outraged husband of HEL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Menela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BB93-F056-43C1-87D3-236256A37760}" type="slidenum">
              <a:rPr b="0" lang="en-US" sz="4400" spc="-1" strike="noStrike">
                <a:solidFill>
                  <a:srgbClr val="e3e3ff"/>
                </a:solidFill>
                <a:latin typeface="Arial"/>
              </a:rPr>
              <a:t>&lt;number&gt;</a:t>
            </a:fld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QUIS SUM?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m the high king of all the Greek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ther of MENELAU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ather of famous childr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S S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9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Agamemn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4:14:24Z</dcterms:created>
  <dc:creator>Bellos Nisan</dc:creator>
  <dc:description/>
  <dc:language>en-US</dc:language>
  <cp:lastModifiedBy>Bellos Nisan</cp:lastModifiedBy>
  <dcterms:modified xsi:type="dcterms:W3CDTF">2009-10-05T06:04:49Z</dcterms:modified>
  <cp:revision>5</cp:revision>
  <dc:subject/>
  <dc:title>QUIS SUM? </dc:title>
</cp:coreProperties>
</file>